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29.wmf" ContentType="image/x-wmf"/>
  <Override PartName="/ppt/media/image7.jpeg" ContentType="image/jpeg"/>
  <Override PartName="/ppt/media/image13.png" ContentType="image/png"/>
  <Override PartName="/ppt/media/image6.jpeg" ContentType="image/jpeg"/>
  <Override PartName="/ppt/media/image28.wmf" ContentType="image/x-wmf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wmf" ContentType="image/x-wmf"/>
  <Override PartName="/ppt/media/image16.jpeg" ContentType="image/jpeg"/>
  <Override PartName="/ppt/media/image26.wmf" ContentType="image/x-wmf"/>
  <Override PartName="/ppt/media/image3.jpeg" ContentType="image/jpeg"/>
  <Override PartName="/ppt/media/image15.png" ContentType="image/png"/>
  <Override PartName="/ppt/media/image24.wmf" ContentType="image/x-wmf"/>
  <Override PartName="/ppt/media/image22.png" ContentType="image/png"/>
  <Override PartName="/ppt/media/image1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23.wmf" ContentType="image/x-wmf"/>
  <Override PartName="/ppt/media/image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FF57-976A-4338-A68D-0C1BA191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BBCB-88CB-4874-BB9C-8FEDCFB5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0E782-3B27-4556-8042-0A48E058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36CED-D29F-4D20-BC6F-6D1244AD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B18A4-299B-46CB-B67F-6FFDE133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B722C-3D5B-4913-A292-817586FE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4A63D-9CA7-4D23-AEE0-FAE0315B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10CF7-8DC9-4DFC-9A82-332D54C5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71477-1625-4707-B863-E9545E77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68CC8-FC1D-4C8D-904F-F5B3C752E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4CDAC-29DF-463A-823A-EA1EAE56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C2B3B-ACCC-4C54-8C29-E72B12178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82D6-C0BC-43BA-A245-FB15D7A4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B6EF1-875C-4CF2-869B-274A4CF3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116CC-83E7-4DF3-9DF1-17542321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884866-7234-460F-8A9F-BC76F3AE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224EE-3E48-478D-A21D-80E79DB0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69F95-2FBC-486A-9D4F-429BA611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81E97-DAA7-4280-9F6F-C30B527F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DE0CD-EC88-4DB9-9277-A8DE897C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D83EC-DB94-4EE8-A6E6-9E2C98FE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5F2EB-12AC-4602-A583-3E9410B2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7E062-06F8-4CFA-9F83-B542B9B38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D3F8-830C-438F-BFBA-1F8EB3A6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407B7-03CD-4626-8B2C-CD630F95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67E35-5D22-43E9-9BB4-727B2F6E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679AC-DC29-4808-A82E-739E0F14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658EF-5547-4D6A-A1E7-76C50810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91211-1824-4EF7-BFD2-66C8D6BE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F9E56-0BBA-4C03-8205-100B4215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AF21C-CB14-4B52-8F73-196EE2D0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8CDEB-A91E-42C4-B3CA-7294F3E3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BBAD8-E98E-42D5-A53E-C83535F0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38781-F050-42C6-B658-AF373D37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57BC-D3A9-4D45-A60A-CDB11537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E2A86-A3A3-499B-B18A-187E7002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8551B-04FB-4B8B-8EA9-78F788303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D05EB-9448-4997-8841-2ADBC934F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05D84-BDD0-4362-A483-FA25631E2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7F372-5325-4773-9171-CEB441BF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25C7A8-5A81-4A9E-B878-316C3707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13CD5-EBE6-490D-89C7-4342BC6D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C1883-5971-4DFA-98FE-8ED2F987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DFBDA5-F5BD-4A1F-8331-EF4171FB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5C038C-A7FC-4DB9-A7AE-9E1B6C95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4217-BBA6-460C-AD1B-1DF20CCE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881E3-AA48-440C-AC36-A89EB5A5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4E048C-D869-4ACF-B150-9DA20DDB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A02E1-C351-4EB7-A226-D6AF35DD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86179F-9F11-4E37-AAD9-2E0749518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8596B8-BE8D-48B6-ABF9-80F9E274B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E88022-5E16-4F72-BD07-519A2FA53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2E0912-AF86-4579-A55D-92544BDC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174703-4B2D-4AE2-805D-51302E0C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B3BD31-9636-463F-809E-B0A18F76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F068A0-B209-4164-89C5-AB5CF4A9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4D02-955D-45A6-8C5B-BA9B591F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AC9C8D-1901-4CAA-AD5E-C8FFE027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C283F7-F660-4B3C-84C4-DE798200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42E9B7-EF10-40AB-8E6A-A0F093CD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DF5E38-E25A-44E7-B4CD-7F112168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1522C0-565C-4DAD-9DC3-BE2C7715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F66BCF-E315-43F7-B6CC-07B0EA515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4AF763-01D4-48AF-A230-4BBD7673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7C419A-439E-47E8-9DA7-7182FCA3B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AEDBA9-2B0D-48B4-8188-2D3EBDF2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21DE05-1F34-4958-B55E-201E928B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8871-C301-4CE5-B782-1346D171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909B94-F93C-4946-AD9A-236467AF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B99A54-F464-4890-BA1F-74684A58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28671C-C978-457A-80D3-8472E84F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667570-6889-4E7C-A58D-070F7462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B26B11-071E-4E26-AD3E-92A50EE1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93811E-9BAB-42F2-8AE9-03B0129F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EE860E-62CB-4DE6-9E08-550E7084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0973BE-0DDC-4C43-89FC-5E18EEE98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3F8635-EA33-4B49-97D8-AB3A409C7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6CF5-7BDE-401A-BD3D-F6A86537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1735-1F9C-49BC-BDC7-61DD35BA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E525-6FE6-47D8-AC16-5752D620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3BDA-E31E-464D-9282-569E80AA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56F2-E7ED-4006-B3D7-F79ACB7A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2970-5338-4C7D-A665-66E0DFB7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122A-6072-4A6F-A926-989C0D2F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A9C6-4E95-4B9B-A907-E031CBA6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72B6-800F-4527-A8AB-F5E1A2CD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8C494-3ABC-402D-8652-DF65453A5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E3CC8-31A2-4420-9C3D-128F6750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148E7-72B5-4398-925D-8013AF47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39256-A8D0-4401-835C-DBDC20E2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AF561-3536-4D3A-A50E-9D8AEB11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D331-DC19-41EA-9691-EAAF2048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70810-5EE4-45BA-AE23-E914C845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8E6FE-3BDB-4C71-A8B0-C3CA4BDD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9D229-B4AA-404D-8F8C-9F1EC610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5B4EA-53AB-4733-A32C-4E72FE33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36D6F-D730-4088-96FC-38B13E20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40719-6A7B-4E4C-BBC2-EB93B261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B5267-A1B7-45FF-9BAE-6B5C46B69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02DCE-2985-45AA-9600-F7E44C615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D1967-567A-4918-9B4C-CB3E3138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F2C47-7A42-4B46-B398-0366DDEB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8ADC-5379-4D5E-B1FE-03A062E2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EF184-B429-449E-AFEB-0A5E2A9F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E0795-0DDD-47E3-B4E2-4C901659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C4E50-6955-4775-89E4-6CEA5D72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B4F72-012C-4BCD-8D2D-7F139FE9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307E7-F164-42B8-91AC-ACF5F83B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00703-FE42-4A32-9A57-FD8E138B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9F462-FC84-4FBD-9A13-555392BC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FFB7B-F67F-4297-B28D-DFD244916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1E470-0749-43BD-944B-A2FD4F5C3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13FEE-BFFF-4FCA-BC9A-3C7C0959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B5AC-71B5-4696-9BE6-8C557B9F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50C7A-9FAA-4F39-A621-16CC9BB7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6744B-F619-4880-A211-9E3F5829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94AFB-7C84-4E42-8B57-201699FB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D51CC-F3E8-42F2-9D8E-3BE37857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8976E-3E51-4813-B5B0-1297863F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820E1-BFC8-451E-8B24-5BFAAC48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E7C91-B4BC-4AA4-8D87-62D5180A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3495A-9126-41DB-A4BB-0901F735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E1201-37D1-463A-B7DA-2061FE6F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ACE46-FD16-4BCC-97BC-DA629C31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71DD-5451-4637-872C-89886379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3A22B-5531-43D7-AE14-53B1C489E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77497-925A-4C82-965E-04C2CD11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E8145-4AC0-4B65-8B20-3EFE3EFA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DA740-C8B8-4E4E-994A-2EF3B455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6993B-2D70-4065-A4A8-F51DAC17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C741E-741E-4765-8027-F49A93C4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B6E2A-73DD-4F3B-9314-E2EBB4D3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C2460-21D8-4221-963E-8DED5C31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50E44-6072-4283-8386-9D4AC672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27975-97DC-4232-8DB4-B9F303E1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3326-33AB-477E-ACD9-FBD1DAA8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2222C-1DBF-4328-A5BC-6DBED6D1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EE96C-5BAB-4427-BAE2-B0B502D22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D26CE-B603-4CD0-9AAB-56D3D97B9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84BC0-BF65-4F2D-B1B7-30E3D34D1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E4093-2834-48F2-A156-CD178729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4B923-8B23-4E7D-AC88-6A01B683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18E19-8FD2-4C43-8CAD-275D2A93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4DF00-B517-485E-BAB1-5916A503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BF40C-487B-4437-9709-8B911BDD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BBC04-C801-42D4-9C59-3E7CCBB8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1A53-B596-471B-82CD-2E5966E8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262D1-E821-44C1-A810-7B8168C3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B5BE3-69C0-4AFE-A9C9-4563B4C6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54EE1-B55C-4817-AAC9-647FB836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0A1BD-D2F2-4471-AAAF-390E3E76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F64DF-9CDD-4CF8-9299-1396BF079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FB7B3-1D22-4B13-9F29-5BB6D0C7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6EFC9-EC6C-4996-8ED4-4878FFB8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FC8FD-7F78-4434-B100-ED311A25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68D56-E3E0-4870-B269-4BA1A572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C07A6-3DBE-44E3-A68A-113D5887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F9B8-9131-4638-95BB-3A9D4199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8618A-0226-414E-81D9-95D8FF3E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83BA0-2BFD-4BDF-BEA4-13AF53BB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BB328-63D0-48A1-A48D-59F5A5D7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D5477-3E58-4BDC-B270-44267D5E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0C74F-E798-4247-A5C3-D3A5C6A7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572C0-67F8-4885-BC13-58C15A8E2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B61A8-4E50-41C4-85B8-16392B5B3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F0C58-21C9-44C2-9E58-F1B7A33D3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94A7D-756A-4F6A-92E3-9105A926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EFB6D-3ECE-4771-AC56-21ACAA61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771E-B5EB-457C-9E95-9EACEFBBF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6992-24AE-4044-9468-D287C8516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93A8-D0F5-4E53-A22E-23887D2EE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C78B-6B5C-49EC-948E-8886473D0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1836-039E-4422-85AB-9634B256C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4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4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EA54-9771-4FCF-A2E5-3708B42DEF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095D-006C-40AA-A408-D6764B89AE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2BDD-953C-42FC-865A-03F7AC5A8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9533-AE59-4573-8708-A54760C70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10E7-1188-4872-A5DF-4E33F05E1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B670-F33C-4E67-9EA5-441CA395A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C2F8-E160-4073-8CE2-9828D71B2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0798-14BD-4EC3-8D98-8C3E934CD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7949-A615-43A0-972A-2272A9305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medicine.com/orthoped/images/Large/546Ice1.jpg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r.wikipedia.org/sr-el/&#1057;&#1083;&#1080;&#1082;&#1072;:Musculi_coli_base.svg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r.wikipedia.org/sr-el/&#1057;&#1083;&#1080;&#1082;&#1072;:Obliquus_capitis_superior.png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r.wikipedia.org/sr-el/&#1057;&#1083;&#1080;&#1082;&#1072;:Musculi_coli_sternocleidomastoideus.svg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sr.wikipedia.org/sr-el/&#1057;&#1083;&#1080;&#1082;&#1072;:Gray308.png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4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8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8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371600" y="242892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ЕВАЛУАЦИЈА БОЛЕСНИКА СА ЦЕРВИКАЛНИМ СИНДРОМОМ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ц. др Катарина Парезановић Илић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639" name="Picture 2" descr=""/>
          <p:cNvPicPr/>
          <p:nvPr/>
        </p:nvPicPr>
        <p:blipFill>
          <a:blip r:embed="rId1"/>
          <a:stretch/>
        </p:blipFill>
        <p:spPr>
          <a:xfrm>
            <a:off x="3624120" y="549360"/>
            <a:ext cx="18957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Патологија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22960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Хроничн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мен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хватај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ам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иску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нтервертебрали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е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стал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руктур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пофизарн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глобов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а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нтервертебралн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глобов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е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кив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лигаментарн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ишићн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руктур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ва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ме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ј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мању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ме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нтервертебрално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твор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мпромиту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функциј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дређено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ре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анифесту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адикуларно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имптоматологијо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Патологија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јчешћ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мен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јав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стеофит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5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6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7.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едњ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стеофи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ог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итисну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esophag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ог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ави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исфагичн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мет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мет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гута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Патологија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икросублуксаци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умулациј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икротрауматск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зро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адикулар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имптоматологиј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цервикобрахиалгиј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e Paloma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вод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и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ђе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золова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егенерациј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едно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иску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е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дружен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мен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утопсијо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ђен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в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мен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азвијај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главно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V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екад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живот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Патологија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анашње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цивилизацијск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руштв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дећ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ложај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ступље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ок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адно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цес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д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ећи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послен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де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себ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мпјутер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лош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зициј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ржа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аме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рат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ег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едн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атичк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ложа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вод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ишић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петост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лабије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ток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рв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Патологија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еприлагође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иси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ад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врши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адно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ол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сл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шко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идоно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већан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презањ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рат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ичм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а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еквалитета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оћ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дмор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евисок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ениск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астук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пава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рбух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в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од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птерећењ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искалн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руктур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станк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егенеративн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ме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искални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штани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руктура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Klippel Feil sindro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671" name="Picture 5" descr="Klippel"/>
          <p:cNvPicPr/>
          <p:nvPr/>
        </p:nvPicPr>
        <p:blipFill>
          <a:blip r:embed="rId1"/>
          <a:stretch/>
        </p:blipFill>
        <p:spPr>
          <a:xfrm>
            <a:off x="539640" y="2276640"/>
            <a:ext cx="2808360" cy="388908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7" descr="Click to see larger pictur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43640" y="2637000"/>
            <a:ext cx="1944720" cy="31683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9" descr="540omo2"/>
          <p:cNvPicPr/>
          <p:nvPr/>
        </p:nvPicPr>
        <p:blipFill>
          <a:blip r:embed="rId4"/>
          <a:stretch/>
        </p:blipFill>
        <p:spPr>
          <a:xfrm>
            <a:off x="3564000" y="2637000"/>
            <a:ext cx="24382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Дијагностика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77724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ијагно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болн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индро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рат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ичм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стављ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е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сл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обр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зет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анамнез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линичк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егле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ендгенолошк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брад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рат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ичм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АП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антеропостериор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ЛЛ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латеролатерал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луко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функционал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нимк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еђ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треб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Ц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мпјутеризова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омограф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М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уклеар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магнетс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езонанц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ЕМН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електромионеурограф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горњ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екстремите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лабораторијс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бра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Дијагностика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170000" y="1714680"/>
            <a:ext cx="777240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ажн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информац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обија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самог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болесни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а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ак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че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болов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утев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шире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стоја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в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њихов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јав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аг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рзај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рау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јес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болов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че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агл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ступ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зроц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јачава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мању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нтензите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болов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акав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валите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болов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уп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штр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евајућ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јес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јављивал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ст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егоб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сто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мет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сећа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рнц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болу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руг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болес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ачи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бављ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вој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са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едећ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тојећ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руг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одат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птереће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Дијагностика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клинички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преглед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00000" y="1945800"/>
            <a:ext cx="43927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линичк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егле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бухва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нспекци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гледа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алпаци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ипа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спитива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псег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окре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врат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ичм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сећа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ефлек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мишић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наг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нспекциј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тврђу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та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ож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остоја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текл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симетр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виси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аме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лопатиц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та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физиолош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закривљено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врат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ичм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лордо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0" name="Picture 6" descr="Мишићи врат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2703600"/>
            <a:ext cx="2879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Клинички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преглед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755640" y="1915920"/>
            <a:ext cx="422424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Гледан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тран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врат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кич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нормалн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удубље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е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напред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Међути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лучај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болног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вратног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индро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о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изравњав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ок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ређ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избочуј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е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натраг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кифозирањ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одиро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уз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лаган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итисак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опипавам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трнаст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наставк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мишић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уз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вратн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кичм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Бол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напетост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мишић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ојачан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мишићн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тонус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каткад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исуств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болних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"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квржиц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"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миогелоз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мишићи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упућуј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ијагноз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3" name="Picture 6" descr="Горњи коси мишић глав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2205000"/>
            <a:ext cx="25398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Дефиниција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Цервикал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индро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ку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импто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ј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спољавај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боло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ратно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егиј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адијацијо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бол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аме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ук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екордијалн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егиј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тиљачн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друч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тиљач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главобољ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лопатиц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Клинички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преглед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окретљивост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вратн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ичм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испитуј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активн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асивн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ви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мерови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окретањ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врато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напред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инклинациј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натраг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реклинациј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тран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латерофлексиј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окретањ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ок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ос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ротациј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цервикално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индром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најпр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ограничен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окре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тран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кос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емд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в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кретњ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мог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би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ограничен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6" name="Picture 6" descr="Стерноклеидомастоидни мишић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72080" y="2143080"/>
            <a:ext cx="241776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Радиографск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дијагностика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а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оцењу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рендгеногра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аж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зна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мог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би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идљив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ендгенск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оме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без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какв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линичк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метњ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днос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тпу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реда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ендгенск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алаз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зражен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линичк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индро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9" name="Picture 6" descr="Пресек кроз потиљачну кост и прва три вратна кичмена пршље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2133720"/>
            <a:ext cx="367344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Клинички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ентитети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77724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</a:rPr>
              <a:t>Цервикални-синдром)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локални симпто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Цервикални-синдром са неуролошким испадима- 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</a:rPr>
              <a:t>цервикобрахиални синдро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Цервикални синдром са главобољом, вртоглавицом или сметњама слушних функција- 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</a:rPr>
              <a:t>цервикоцефални синдро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мпесија кичмене мождине- 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</a:rPr>
              <a:t>цервико-медуларни-синдро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ЦЕРВИКАЛНИ СИНДРОМ ЕВАЛУАЦИЈА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Елементи за процену стања пацијента (евалуација стања код цервикалног синдрома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АНАМНЕЗА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ницијали пацијен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одине старости пацијен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валуација главних тегоб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осадашњи ток обољењ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осадашња дијагност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едузете терапијске мер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ришћене методе функционалне евалуациј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143000" y="6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ФИЗИОТЕРАПЕУТСКИ ПРЕГЛЕД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сервациј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лпациј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ализа тону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ализа мишићне снаг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ализа обима покре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ализа трофик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кционална процена кроз специфичне тестов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143000" y="57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ТЕРАПИЈСКИ ПЛАН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imes New Roman"/>
              </a:rPr>
              <a:t>Постављање циље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општи циљеви – функционално и моторичко оспобљавањ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специфични циљеви – редукција бола, повећање мишићне снаге, повећање обима покрета, побољшање трофике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цена сензибилитета, анализа статике, анализа динамике (функционална анализа),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редукција постуралних поремећаја и с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СТАВЉАЉЕ ТЕРАПИЈСКОГ ПРОГРАМА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мобилизац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мена ортотских помага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Примена физикалних агенаса према клиничком физиотерапеутском налаз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Примена кинезитерапиј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Примена едукационих мето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Психолошка потпо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Физиотерапијски поступци на одељењу рехабилитације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Обсервациј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Палпациј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Анализа тонус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нализа статике (држања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Анализа мишићне снаг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Анализа обима покре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Анализа трофик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нализа динамике ( функционална процена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нализа сензибилитета-површни и дубоки сензибилит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Фукционална процена кроз специфичне тестов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62160" y="482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Различити</a:t>
            </a:r>
            <a:r>
              <a:rPr b="1" lang="sr-Latn-C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терапијски</a:t>
            </a:r>
            <a:r>
              <a:rPr b="1" lang="sr-Latn-C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приступи</a:t>
            </a:r>
            <a:r>
              <a:rPr b="1" lang="sr-Latn-C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55640" y="1946160"/>
            <a:ext cx="43927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иступ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лечењ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вратног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болног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индро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разликуј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акутној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хроничној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фаз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акутној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фаз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кад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болов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интензивн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врат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кич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укоче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циљ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лечењ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мањењ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болов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опуштањ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мишићног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паз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односн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екину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зачаран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круг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бол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паза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бол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Т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остижем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имено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аналгетик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нестероидних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антиинфламаторних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леков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уној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доз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ортикостероид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кој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елуј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болн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упалн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компонент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цес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миотонолитицим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едативи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елујем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опуштањ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мишићног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паз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6" name="Picture 5" descr=""/>
          <p:cNvPicPr/>
          <p:nvPr/>
        </p:nvPicPr>
        <p:blipFill>
          <a:blip r:embed="rId1"/>
          <a:stretch/>
        </p:blipFill>
        <p:spPr>
          <a:xfrm>
            <a:off x="5508720" y="2133720"/>
            <a:ext cx="30477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Дефиниција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физиолошко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спект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ва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индро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едстављ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ку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импто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езани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ритациј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мпресиј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ервни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ренов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нтервертебрални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твори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мпреси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аскуларни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леменат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импатику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90%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јав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во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индро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снов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егенеративн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мен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ратн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егиј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Терапија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ок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фаз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треб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мировањ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вратн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кичм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ек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вратник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(Schantzov okovratnik)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ок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а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оћ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сл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ам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ок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оћ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ра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имптом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Локал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ж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знад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ишић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ј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лаз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з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ратн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ичм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имењу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масаж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лед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риомасаж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)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Филаделфија</a:t>
            </a:r>
            <a:r>
              <a:rPr b="1" lang="sr-Latn-C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крагна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710" name="Picture 10" descr="liner"/>
          <p:cNvPicPr/>
          <p:nvPr/>
        </p:nvPicPr>
        <p:blipFill>
          <a:blip r:embed="rId1"/>
          <a:stretch/>
        </p:blipFill>
        <p:spPr>
          <a:xfrm>
            <a:off x="4716360" y="2349360"/>
            <a:ext cx="1314720" cy="17146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12" descr="tracheotomy"/>
          <p:cNvPicPr/>
          <p:nvPr/>
        </p:nvPicPr>
        <p:blipFill>
          <a:blip r:embed="rId2"/>
          <a:stretch/>
        </p:blipFill>
        <p:spPr>
          <a:xfrm>
            <a:off x="2916360" y="2349360"/>
            <a:ext cx="1314360" cy="171468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14" descr="halo"/>
          <p:cNvPicPr/>
          <p:nvPr/>
        </p:nvPicPr>
        <p:blipFill>
          <a:blip r:embed="rId3"/>
          <a:stretch/>
        </p:blipFill>
        <p:spPr>
          <a:xfrm>
            <a:off x="1332000" y="2349360"/>
            <a:ext cx="1314360" cy="17146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17" descr="original"/>
          <p:cNvPicPr/>
          <p:nvPr/>
        </p:nvPicPr>
        <p:blipFill>
          <a:blip r:embed="rId4"/>
          <a:stretch/>
        </p:blipFill>
        <p:spPr>
          <a:xfrm>
            <a:off x="6372360" y="2349360"/>
            <a:ext cx="1304640" cy="171468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19" descr="stabilizer"/>
          <p:cNvPicPr/>
          <p:nvPr/>
        </p:nvPicPr>
        <p:blipFill>
          <a:blip r:embed="rId5"/>
          <a:stretch/>
        </p:blipFill>
        <p:spPr>
          <a:xfrm>
            <a:off x="3780000" y="4508640"/>
            <a:ext cx="13046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Терапија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роничној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фаз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а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мањ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нтензите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болов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ич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ста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кретљив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имењу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аналгетиц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нестероидн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антиинфламаторн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леков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е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треб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пушт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болов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паз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имењујем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топл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роцедур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масаж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електротерапиј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тракци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стез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опл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оцедур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блик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опл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блог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опл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упк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ушира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нфрацрве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ламп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ерапијск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лтразву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Терапија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ракциј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ракциј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дносн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кстензиј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ратн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ичм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звод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/3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елесн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ежин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0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5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ра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5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0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инут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бичн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ад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нтермитентн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требн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дговар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сови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ичм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справљањ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лордоз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Терапија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в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аведе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оцедур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ерм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електр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масаж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луж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а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в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кинезитерапи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ерап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крет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медицинс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гимнасти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ежб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стеза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зометриск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ежб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наже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мишић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астерет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ежб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ежб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стур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ржа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провод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адзор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физиотерапеу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Бит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стакну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аж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медицинск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гимнастик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новн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раћањ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државањ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функц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рат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ичм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Терапија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Лече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болно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индро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рат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ичм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ож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спеш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вест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методам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киропрак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ам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ука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бр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ручњак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Терапија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170000" y="171468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Оперативно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лече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болно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индро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рат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ичм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етк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треб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Едукациј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аж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евенциј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болов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рат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штитни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ложаји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крети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ад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склађивање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иси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ад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врши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ол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ришћење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аљкасто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астук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павање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бок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леђи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збегавање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аљ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ож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утомобил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руги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ступци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мању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рес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ратн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ичм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Терапија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вак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нев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20-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инут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ежба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државаћ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ишић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рат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ичм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вољ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нажни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ак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б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ачува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функци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блажи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број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раум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ји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рат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ич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вакоднев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зложе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ТРЗАЈНА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ПОВРЕДА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ВРАТА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777240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ве чешћи узрок дегенеративних промена вратне кичме су трауме главе и врата у саобраћајним незгодам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Трзајна повреда вратне кичме  данас је врло честа, најчешћа у саобраћајним удесима (судар аутомобила, пад мотоциклисте, бициклисте и пешака). Назив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whiplash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озљеда (енгл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Whiplash injuru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) сложеница је енглеских ријечи -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whip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(што значи ошинути бичем, нагло ударити),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lash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(бич) 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njuru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(озледа, незгода), </a:t>
            </a:r>
            <a:r>
              <a:rPr b="0" lang="sr-CS" sz="2800" spc="-1" strike="noStrike">
                <a:solidFill>
                  <a:srgbClr val="ff0000"/>
                </a:solidFill>
                <a:latin typeface="Times New Roman"/>
              </a:rPr>
              <a:t>а у слободном преводу значи "као бичем ошинуто", "нагли трзај главе попут трзаја бича".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Патологија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77724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илик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уда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в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аутомобил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етпоставк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т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едње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даре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дпоза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о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аутомобил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заустав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аш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ел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рат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ич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олаз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роз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еколик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фа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дма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ако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да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аме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уту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апре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в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о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ис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ложа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спре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глав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ра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стеж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атра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илик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че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аутомобил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агл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заустављ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шт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бац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глав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ра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натра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в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о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дар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едишт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ј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ржач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глав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Анатомија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в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шљен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зив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тла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зглобљав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руг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шљен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ек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едн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совинск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глоб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Атлас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латинско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име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НОСАЧ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;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Епистропхеус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грчко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име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ОКРЕТАЧ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стал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шље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веза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четир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глоб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искус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ј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лаз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змеђ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в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шљенс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ел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6" name="Picture 8" descr="Atlas_Axis"/>
          <p:cNvPicPr/>
          <p:nvPr/>
        </p:nvPicPr>
        <p:blipFill>
          <a:blip r:embed="rId1"/>
          <a:stretch/>
        </p:blipFill>
        <p:spPr>
          <a:xfrm>
            <a:off x="5646600" y="2603520"/>
            <a:ext cx="27813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143000" y="57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Статистика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е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еки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атистика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број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рзајн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вред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рат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следњ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есе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годи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раста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ча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е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ут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а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следиц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удар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тприлик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20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ст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људ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бле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глав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ратн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ичм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ак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ек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порав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елатив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брз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ек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азвија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хронич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а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вод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болов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аткад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емогућност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бавља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ктивност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з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вакодневно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живот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Последице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повређивања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саобраћају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Болов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рат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естабилнос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рат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ичм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вред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ичме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ожди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вред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искалн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рукту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елом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ратн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шљено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шчаше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ратн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шљено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асцеп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ишић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лигамена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Дијагностика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Лекарск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егле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нализ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кретљивост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рат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ичм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нализ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ервн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спа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адиографиј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кене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HO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ијагности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Патологија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акл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ласич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еханиза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вред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whiplash 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</a:rPr>
              <a:t>догађа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</a:rPr>
              <a:t>се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</a:rPr>
              <a:t>секунд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Бита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зро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брзи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ож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шт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ећ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рзај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вред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чешћ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ач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штит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аздуш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асту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бита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лемена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мање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изик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ешк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вред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рат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ичм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Терапија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70000" y="171468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Поступа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рст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ретма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вис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ог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шт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етход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етраг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ткрил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зроци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кутној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фаз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ећи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ацијенат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спеш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леч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ировање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лекови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пушта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ишић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мање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бол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нтиинфламаторни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лекови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имен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оплот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риотерап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лед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илагођавање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ктивност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невно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живот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чи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ад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ежба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имен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физикал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ерап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Терапија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в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24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ат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ож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именит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криотерапиј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терапиј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ледом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уз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лагано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покретањ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глав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ад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пушта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ишић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бољша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циркулац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ами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им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мање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бол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зира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имењу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електротерапиј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магнетотерапиј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терапиј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ултразвук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Терапија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иш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физиотерапеу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ацијент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ож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казат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еколик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кратких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вежб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кој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мог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спроводит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код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кућ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четк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епоручу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дређе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аздобљ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болова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к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огућ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прилагођавањ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радних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ктивност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143000" y="57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Терапија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вет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ренут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провод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ош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ед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етод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ерап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рзајн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зљед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lti Cervical Unit (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CU)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U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ерап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ктивн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улог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пацијент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ок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ретма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лич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нтролиш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звође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крет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ача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ишић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луча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глав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ацијент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лаз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војеврсн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бруч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појен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ек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нзор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ачунанар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Терапија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170000" y="164268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звођењ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кре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ежб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наг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ацијен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стовреме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а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езултат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монитор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вак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кре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ециз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нтролиш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а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апара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ак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ацијен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мож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етера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активности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ак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ацијен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слобађа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трах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агл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јак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бо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зазва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омен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ложа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глав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шт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знач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тец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вере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лакш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пушт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брж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оце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ехабилитац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Зб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чињениц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MCU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ехни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зразит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об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ерапи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whiplash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Корен</a:t>
            </a:r>
            <a:r>
              <a:rPr b="1" lang="sr-Latn-CS" sz="4400" spc="-1" strike="noStrike">
                <a:solidFill>
                  <a:srgbClr val="000000"/>
                </a:solidFill>
                <a:latin typeface="Times New Roman"/>
              </a:rPr>
              <a:t> C5 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4400" spc="-1" strike="noStrike">
                <a:solidFill>
                  <a:srgbClr val="000000"/>
                </a:solidFill>
                <a:latin typeface="Times New Roman"/>
              </a:rPr>
              <a:t> C6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750" name="Picture 4" descr=""/>
          <p:cNvPicPr/>
          <p:nvPr/>
        </p:nvPicPr>
        <p:blipFill>
          <a:blip r:embed="rId1"/>
          <a:stretch/>
        </p:blipFill>
        <p:spPr>
          <a:xfrm>
            <a:off x="5132520" y="1946160"/>
            <a:ext cx="3809880" cy="4114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751" name="Picture 5" descr=""/>
          <p:cNvPicPr/>
          <p:nvPr/>
        </p:nvPicPr>
        <p:blipFill>
          <a:blip r:embed="rId2"/>
          <a:stretch/>
        </p:blipFill>
        <p:spPr>
          <a:xfrm>
            <a:off x="1170000" y="1946160"/>
            <a:ext cx="3809880" cy="4114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5" descr="Halswirbel"/>
          <p:cNvPicPr/>
          <p:nvPr/>
        </p:nvPicPr>
        <p:blipFill>
          <a:blip r:embed="rId1"/>
          <a:stretch/>
        </p:blipFill>
        <p:spPr>
          <a:xfrm>
            <a:off x="4788000" y="765000"/>
            <a:ext cx="2685960" cy="124812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7" descr="Atlas und Axis passen genau aufeinander."/>
          <p:cNvPicPr/>
          <p:nvPr/>
        </p:nvPicPr>
        <p:blipFill>
          <a:blip r:embed="rId2"/>
          <a:stretch/>
        </p:blipFill>
        <p:spPr>
          <a:xfrm>
            <a:off x="2124000" y="1052640"/>
            <a:ext cx="2324160" cy="9810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9" descr="Lendenwirbel"/>
          <p:cNvPicPr/>
          <p:nvPr/>
        </p:nvPicPr>
        <p:blipFill>
          <a:blip r:embed="rId3"/>
          <a:stretch/>
        </p:blipFill>
        <p:spPr>
          <a:xfrm>
            <a:off x="3708360" y="4292640"/>
            <a:ext cx="2495520" cy="15238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1" descr="Bandscheibe"/>
          <p:cNvPicPr/>
          <p:nvPr/>
        </p:nvPicPr>
        <p:blipFill>
          <a:blip r:embed="rId4"/>
          <a:stretch/>
        </p:blipFill>
        <p:spPr>
          <a:xfrm>
            <a:off x="6227640" y="2349360"/>
            <a:ext cx="1057320" cy="135252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3" descr="Brustwirbel"/>
          <p:cNvPicPr/>
          <p:nvPr/>
        </p:nvPicPr>
        <p:blipFill>
          <a:blip r:embed="rId5"/>
          <a:stretch/>
        </p:blipFill>
        <p:spPr>
          <a:xfrm>
            <a:off x="1763640" y="2349360"/>
            <a:ext cx="377208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. axillari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ренско порекло C5 и C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ешовити жива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ервиш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ишиће раменог појас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жу задње и спољашње стране надлак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зија n. axillari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могућа је абдукција, флексија и хоризонтална абдукција надлак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слабљена је спољашња ротациј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Picture 2" descr=""/>
          <p:cNvPicPr/>
          <p:nvPr/>
        </p:nvPicPr>
        <p:blipFill>
          <a:blip r:embed="rId1"/>
          <a:stretch/>
        </p:blipFill>
        <p:spPr>
          <a:xfrm>
            <a:off x="1066680" y="812880"/>
            <a:ext cx="716292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. musculocutaneu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ренско порекло: C5, C6 и C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ешовити нер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ервиш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шиће предње ложе надлакт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83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жу спољашње стране подлак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83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зија n. musculocutaneu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могућа је флексија подлакта са супинацијо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слабљена је супинација подлак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лимично је ослабљена и флексија надлакта (m. coracobrachial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83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. radiali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јвећа грана pl. Brachiali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ренско порекло: C6,7,8 и Th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ешовити нер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вршне гране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отор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 супинаторе и екстензоре подлакта, екстензоре шаке и екстензоре прстиј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ензитивн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N.cutaneus brachii post.  и N.cutaneus antebrachii dorsal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Лезија n. Radiali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,Висећа шака,,резултат екстензорне парализе, тј. немогућност испружања проксималних фалаги прстију, шаке и подлактиц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Picture 2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. ulnari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ренско порекло C-7, C-8, Th-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ешовити нер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лази кроз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lcus n.ulnari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за унутрашњег епикондила хумеруса где је површан и изложен повредам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могућава флексију улнарног дела прстију и шаке (m. flexor carpi ulnaris i flexor digitorum profundus.У шаци инервише све мале мишиће (m.interrosei, III i IV lumbrikalni mišić, opponens dig.V, adductor pollici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зија n. Ulnari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,Канђаста шака,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. medianu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ренско порекло C6, C7, C8 и Th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ешовити нер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јразвијенија грана спле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 длан улази кроз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canalis car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ервише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мишиће предње ложе подлакта 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мишиће и кожу спољашње половине дла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зија n. medianu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Шака проповедн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Picture 2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238880" cy="64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Picture 2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3424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Picture 3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51680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Анатомија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7772400" cy="46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снов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трукту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ремећа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аскуларн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егион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лив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артер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ертебрали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олаз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ро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твор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пречни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аставци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ратн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шљенов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в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артер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бавије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густ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мреж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импатичн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лака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а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адраже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овод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уже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рвн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у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егенеративн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оме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ратни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шљени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олаз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адража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ратн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импатику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нсуфицијенц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артер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ертебрали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Зб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ог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олаз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ртоглавиц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болов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затиљачној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еги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Лезија</a:t>
            </a:r>
            <a:r>
              <a:rPr b="1" lang="sr-Latn-CS" sz="4400" spc="-1" strike="noStrike">
                <a:solidFill>
                  <a:srgbClr val="000000"/>
                </a:solidFill>
                <a:latin typeface="Times New Roman"/>
              </a:rPr>
              <a:t> n. ulnarisa 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4400" spc="-1" strike="noStrike">
                <a:solidFill>
                  <a:srgbClr val="000000"/>
                </a:solidFill>
                <a:latin typeface="Times New Roman"/>
              </a:rPr>
              <a:t> medianus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768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4960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769" name="Picture 4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44960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Епидемилогија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187280" y="2637000"/>
            <a:ext cx="7772400" cy="32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в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штеће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ичмено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уб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36%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тпад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ратн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имптоматологи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кор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е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соб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сл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55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годи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живот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е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егенератив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ме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ратној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ичм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коштава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Патологија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кут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штећењ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искалн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руктур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стај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ам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лучај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ач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рауматизаци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себн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стич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рзај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вред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рат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аобраћај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дес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иректн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ертикалн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авијањ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ко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латформ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глав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литк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од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Патологија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цес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аре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лаз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лабост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ишићн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руктур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птереће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ено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ирект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шта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искал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руктур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шт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вод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јав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болов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ј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ог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рачит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тиљачн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еги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ам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уж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ук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лопатичн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еги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некад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бол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ож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рачит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екордијалн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друч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ат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егоб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митира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енокарди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6T10:25:15Z</dcterms:created>
  <dc:creator>WIN98SE</dc:creator>
  <dc:description/>
  <dc:language>en-US</dc:language>
  <cp:lastModifiedBy>katarinaparezanovicilic@gmail.com</cp:lastModifiedBy>
  <dcterms:modified xsi:type="dcterms:W3CDTF">2020-02-12T18:06:06Z</dcterms:modified>
  <cp:revision>67</cp:revision>
  <dc:subject/>
  <dc:title>Cervikalni sindrom</dc:title>
</cp:coreProperties>
</file>